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CC-D250-490B-A2FF-69CC2E2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9B6-15E3-4D8B-BB3E-E85E8695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0D-9026-4577-83B9-E0571D05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30F-BBB6-4F7C-80B6-E9A7DBCC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F396-1E2F-4932-BDC0-14394EC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830-5A4F-4D0A-B435-50946C7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9D0-DBF5-4662-840B-6B3476D6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C7C-C5FD-4515-81B2-C46266E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E146-8251-4CA9-BA0D-F2210309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15E2-79BE-4ECA-B590-801C524C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F2A4-D5D0-4EDA-8F86-B59BAA6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D7B-8D42-4BCB-B455-44CE96D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33F9-4950-48A8-9E77-FC173B3E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0F1-08B2-434A-BBE8-933A37E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789A-274C-4C18-90DA-D1F27387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AD3A-D912-44A0-9BC6-E88020DA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B97-28BC-4F19-84B2-8260E6BD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1D4-1881-42EA-AB22-B3EF348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C83-6D2A-4518-9298-64A5E12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A23-9621-4914-9D37-345C9C3D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41E-D976-4599-A4D2-996CDF3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4D0-B024-4CEE-904C-CF06230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BBD-F9FF-40B4-A5AF-45B8226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D09-95A3-4B51-A315-56E5CD0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856-9C5C-440C-BEC9-56283F128A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81D-6870-4184-8770-7639F757AA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6"/>
          <p:cNvSpPr txBox="1"/>
          <p:nvPr/>
        </p:nvSpPr>
        <p:spPr>
          <a:xfrm>
            <a:off x="826920" y="333360"/>
            <a:ext cx="749016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избиратель 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7" descr="er68"/>
          <p:cNvPicPr/>
          <p:nvPr/>
        </p:nvPicPr>
        <p:blipFill>
          <a:blip r:embed="rId1"/>
          <a:stretch/>
        </p:blipFill>
        <p:spPr>
          <a:xfrm>
            <a:off x="2987640" y="2565360"/>
            <a:ext cx="3384720" cy="3357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0d9c"/>
                </a:solidFill>
                <a:latin typeface="Arial"/>
              </a:rPr>
              <a:t>Что такое выборы?</a:t>
            </a:r>
            <a:r>
              <a:rPr b="1" i="1" lang="ru-RU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ahoma"/>
              </a:rPr>
              <a:t>Выборы – это голосование, которое проводится на определённом избирательном участке, выбор тех, кому мы доверяем решение проблем в государстве и управление стра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0" descr="116782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 достижением возраста 18 лет в соответствии с Конституцией РФ человек приобретает право избирать и участвовать в выборах. Но участие в выборах – личное дело каждого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10" descr="p2150113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1"/>
          <p:cNvSpPr txBox="1"/>
          <p:nvPr/>
        </p:nvSpPr>
        <p:spPr>
          <a:xfrm>
            <a:off x="324000" y="620640"/>
            <a:ext cx="8686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бя ждут на избирательном участке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Молодёжь – будущее страны! Я считаю, что на нас, молодых избирателях, лежит гражданская ответственность за будущее российское общества, за судьбу нашей стран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21" descr="498"/>
          <p:cNvPicPr/>
          <p:nvPr/>
        </p:nvPicPr>
        <p:blipFill>
          <a:blip r:embed="rId1"/>
          <a:stretch/>
        </p:blipFill>
        <p:spPr>
          <a:xfrm>
            <a:off x="900000" y="1700280"/>
            <a:ext cx="3432240" cy="41767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22"/>
          <p:cNvSpPr txBox="1"/>
          <p:nvPr/>
        </p:nvSpPr>
        <p:spPr>
          <a:xfrm>
            <a:off x="971640" y="476280"/>
            <a:ext cx="7488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ущее в руках молодёжи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 нашей школе каждый год проходят выбор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4" name="Picture 2" descr="C:\Documents and Settings\Админ\Мои документы\Мои рисунки\Фото\фото гражданин\Изображение 029.jpg"/>
          <p:cNvPicPr/>
          <p:nvPr/>
        </p:nvPicPr>
        <p:blipFill>
          <a:blip r:embed="rId1"/>
          <a:stretch/>
        </p:blipFill>
        <p:spPr>
          <a:xfrm>
            <a:off x="47520" y="3645000"/>
            <a:ext cx="4297320" cy="322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Админ\Мои документы\Мои рисунки\Фото\фото гражданин\Изображение 033.jpg"/>
          <p:cNvPicPr/>
          <p:nvPr/>
        </p:nvPicPr>
        <p:blipFill>
          <a:blip r:embed="rId2"/>
          <a:stretch/>
        </p:blipFill>
        <p:spPr>
          <a:xfrm>
            <a:off x="4344840" y="1611360"/>
            <a:ext cx="47991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Я думаю, что каждый избиратель должен знать, что представляет собой кандидат. Должен внимательно изучить его программу, которую, в случае победы на выборах будут реализовывать в жиз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img_18902877_301_1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78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"/>
          <p:cNvSpPr txBox="1"/>
          <p:nvPr/>
        </p:nvSpPr>
        <p:spPr>
          <a:xfrm>
            <a:off x="611280" y="476280"/>
            <a:ext cx="806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Что должен знать грамотный избирател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По моему мнению кандидат должен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1) Быть сильной личност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2) Быть честным и убедитель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3) Понимать чего хочет народ и страна в цел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6" descr="Red_checl_Box"/>
          <p:cNvPicPr/>
          <p:nvPr/>
        </p:nvPicPr>
        <p:blipFill>
          <a:blip r:embed="rId1"/>
          <a:stretch/>
        </p:blipFill>
        <p:spPr>
          <a:xfrm>
            <a:off x="457200" y="1881360"/>
            <a:ext cx="4038480" cy="39668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611280" y="260280"/>
            <a:ext cx="7921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им я вижу кандидата на победу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ahoma"/>
              </a:rPr>
              <a:t>Я живу в демократической стране и во время выборов итоги голосования порой зависят от одного единственного голоса, который может повлиять на исход выборов. Этот голос может оказаться – мои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2" descr="1357928011_full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13"/>
          <p:cNvSpPr txBox="1"/>
          <p:nvPr/>
        </p:nvSpPr>
        <p:spPr>
          <a:xfrm>
            <a:off x="826920" y="404640"/>
            <a:ext cx="756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 – избиратель! Будущее страны в моих руках!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1:10:08Z</dcterms:created>
  <dc:creator>Admin</dc:creator>
  <dc:description/>
  <dc:language>en-US</dc:language>
  <cp:lastModifiedBy>Админ</cp:lastModifiedBy>
  <dcterms:modified xsi:type="dcterms:W3CDTF">2014-10-21T07:28:35Z</dcterms:modified>
  <cp:revision>3</cp:revision>
  <dc:subject/>
  <dc:title>Слайд 1</dc:title>
</cp:coreProperties>
</file>